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239-2CD4-4814-B9BC-AD8BFA5DB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634-3688-4293-A08F-CD95BE54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D4E-BFE6-4923-BE42-5C09DCC5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E3A-D1E8-44B6-85B2-0CF16EFE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C6B5-8CBA-4BE5-BDEE-FB0FB9D8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DAC5-F617-40BC-B7EA-B463C7B0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AB20-9BEA-4F75-8418-EC64FAB9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9EA0-2D3D-49DF-A37B-71E77382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D1FE-6ACF-4880-82BD-610A4185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EE32-B168-45DD-AC8F-EAD97C5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1544-B3F3-4762-BF9F-92CEAD1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D45-7EAF-41FC-91AE-8C340796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018E-C955-458E-A6DE-DFD72BA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E5D1-16FB-49DD-8874-740447B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7B2F-A216-4215-B4A5-F1BBE220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BB96-1496-494F-BC1E-0E394EAE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8927-1EE6-43EE-8BB1-31ED2D97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151-5142-4B9E-A909-76DE877B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A99E-011A-40DA-8EE6-D91613C1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B9DD-55E7-4961-B749-6037731F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EE0-2B72-407C-864F-D995C969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187-9A6D-4E43-B007-39FF8874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270-A413-4262-9F0F-3CAAA213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685-C190-4210-8E93-19D384C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532B-1B0E-4075-B3DF-0A15FD7B3C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1CAC-C5A8-4623-9F40-01D7814D24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シュリンク版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の開発過程にみ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SP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のソー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TION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アライブビジョンソフトウェア株式会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髙橋和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各モジュールの説明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prc_support.sr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kernel_start_dispat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残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kernel_call_exit_kernel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カーネル出口処理　未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ret_in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残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ret_int_r_rte: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残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kernel_interrupt: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残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kernel_excepti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例外処理　削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nterrupt.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割り込み機能　未実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exception.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--------------------------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例外処理　削除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このセクションの目的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シュリンク版の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を作成する過程において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P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のソースの構成およびソースそのものを理解する必要があり、その中で取捨選択を繰り返し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その目線で、どのような取捨選択をしたかをここで説明しま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ファイルモジュール表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4360" y="1916280"/>
          <a:ext cx="7772400" cy="4644720"/>
        </p:xfrm>
        <a:graphic>
          <a:graphicData uri="http://schemas.openxmlformats.org/drawingml/2006/table">
            <a:tbl>
              <a:tblPr/>
              <a:tblGrid>
                <a:gridCol w="1128960"/>
                <a:gridCol w="861840"/>
                <a:gridCol w="1627200"/>
                <a:gridCol w="1895400"/>
                <a:gridCol w="22590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場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モジュー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呼び出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説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rt.sr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st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sta_k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software_init_ho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hardware_init_ho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_kernel_istk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_cfg.c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にて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"_kernel_istkpt"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値を決定する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support.sr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hardware_init_ho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software_init_hoo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rtup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_k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initialize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削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ize_object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_cfg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all_inirtn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_cfg.c  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削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rt_dispatch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t_k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未実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it_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未実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config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initial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c_initialize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ターゲット固有の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O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ドライ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ex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x600_uart_init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その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O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初期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fput_lo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各モジュールの説明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tart.src---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基本的に開発環境のもの（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EW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ウイザード）のものを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arget_support.src---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tartup.c ----sta_ker()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を実装。ターゲット初期化および割り込みベクター初期化は削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arget_config.c ----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ファイルモジュール表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844640"/>
          <a:ext cx="7772400" cy="4476600"/>
        </p:xfrm>
        <a:graphic>
          <a:graphicData uri="http://schemas.openxmlformats.org/drawingml/2006/table">
            <a:tbl>
              <a:tblPr/>
              <a:tblGrid>
                <a:gridCol w="1128960"/>
                <a:gridCol w="861840"/>
                <a:gridCol w="1627200"/>
                <a:gridCol w="1895400"/>
                <a:gridCol w="22590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場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モジュー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呼び出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説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c_config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c_initial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nest = 1U; 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の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c_termin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ベクタ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xlog_s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x_config_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fault_int_hand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efault_exc_hand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x600_usrt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ＳＩＯドライ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serial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O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ドライ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_timer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タイマードライ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anner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yss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バナ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erial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yss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O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ドライ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anner.t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yssv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ここでバナーの固定テーブルのテンプレート</a:t>
                      </a:r>
                      <a:br>
                        <a:rPr sz="1100"/>
                      </a:b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があるので削除し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bel_cfg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initialize_ob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initialize_task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initialize_interrupt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ベクタの初期化　削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initialize_exception()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例外ベクタの初期化　削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各モジュールの説明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prc_config.c 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rx600_usrt.c 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arget_serial.c 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arget_timer.c  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banner.c ----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バナーはとりあえず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erial.c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ターゲット固有のドライバは持た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banner.t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---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バナーはとりあえず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kernel_cfg.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kernel_initialize_task ----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残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kernel_initialize_interrupt(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割り込みベクタの初期化　削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kernel_initialize_exception(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例外ベクタの初期化　削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ファイルモジュール表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1916280"/>
          <a:ext cx="7772400" cy="4143240"/>
        </p:xfrm>
        <a:graphic>
          <a:graphicData uri="http://schemas.openxmlformats.org/drawingml/2006/table">
            <a:tbl>
              <a:tblPr/>
              <a:tblGrid>
                <a:gridCol w="1128960"/>
                <a:gridCol w="861840"/>
                <a:gridCol w="1627200"/>
                <a:gridCol w="1895400"/>
                <a:gridCol w="2259000"/>
              </a:tblGrid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場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モジュー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呼び出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説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ask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ize_ta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タスク情報の初期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et_ipri_sel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et_ip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itmap_se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imap_emp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imap_sera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imap_t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imap_s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imap_cl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werach_schedt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est_dorma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make_a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un_t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patch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各モジュールの説明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ask.c ---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スク処理　残す　そのま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ファイルモジュール表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39640" y="1844640"/>
          <a:ext cx="7772400" cy="4370400"/>
        </p:xfrm>
        <a:graphic>
          <a:graphicData uri="http://schemas.openxmlformats.org/drawingml/2006/table">
            <a:tbl>
              <a:tblPr/>
              <a:tblGrid>
                <a:gridCol w="1128960"/>
                <a:gridCol w="861840"/>
                <a:gridCol w="1627200"/>
                <a:gridCol w="1895400"/>
                <a:gridCol w="2259000"/>
              </a:tblGrid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ァイ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場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モジュー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呼び出し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説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rc_support.sr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_kernel_start_dispat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起動時のディスパッチ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_kernel_call_exit_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カーネル出口処理　未実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t_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からのディスパッチャ入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ret_int_r_rt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で割り込みがひとつネストを戻して戻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interrupt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ハンド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_kernel_exce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PU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例外 削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terrupt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ize_interru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割り込み情報のテーブル初期化をしている</a:t>
                      </a:r>
                      <a:br>
                        <a:rPr sz="1100"/>
                      </a:b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この辺は手動にするので、削除する方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s_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ユーザ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P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na_i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ユーザ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P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ption.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er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initialize_excep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PU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例外のベクタ等の設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1T08:19:45Z</dcterms:created>
  <dc:creator>takahashi</dc:creator>
  <dc:description/>
  <dc:language>en-US</dc:language>
  <cp:lastModifiedBy>takahashi</cp:lastModifiedBy>
  <dcterms:modified xsi:type="dcterms:W3CDTF">2014-07-21T08:36:46Z</dcterms:modified>
  <cp:revision>2</cp:revision>
  <dc:subject/>
  <dc:title>シュリンク版SSPの開発過程にみるSSPのソース</dc:title>
</cp:coreProperties>
</file>