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9B3F-591C-4E1A-A8E8-4F26C6016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BA90-9CE7-463B-A603-356CA9291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C852-0703-438D-A12E-47308C992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A8A2-C5DE-42E7-BD47-0EE158816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FC856-96E7-485D-B51B-366727B3A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DC16D-1938-4A3D-AD1D-B78272A51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565C3-BF5A-430C-BC08-0949E82E9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84155-F00F-4A79-9F9A-7EC456FCD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32512-E38A-461A-A422-C1A68D730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3CE74-5F3B-4638-9828-7E20D74D4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28B19-CB7B-4AEF-9830-BE5359253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CD57-26AD-40BF-90C9-2CD89D262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F33D3-F84C-4B1A-A105-2298D5233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2A129-2AD5-42B3-B694-C9A440196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7A70A-FB0C-4FEC-987C-44E3B36A5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45905-A287-4D87-9974-74F27D391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318A2-AD50-479F-AA11-CFAE0ABF4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FBC6-C4F3-4E66-9FF8-05F01AE82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030A-A4E5-4822-B778-D437E66F6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2AE6-3F35-450B-A024-8FA429393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3D28-DCC1-430A-BB9F-8097230CA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2AA2-F783-4BC0-980C-CD776D564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F7CF-4DE2-4485-B49F-1D80CDD7A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B7C9-FA6E-4445-8CF9-7BAA29B31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26903-2432-4E3F-ACA4-6D1196EE4A1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28C72-403A-4012-A762-1989E3EDBEC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シュリンク版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SP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の開発過程にみる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SP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のソース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TION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アライブビジョンソフトウェア株式会社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髙橋和浩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各モジュールの説明　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4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prc_support.sr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　　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kernel_start_dispatch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　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-----------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残す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　　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kernel_call_exit_kernel-----------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カーネル出口処理　未実装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ret_int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　　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---------------------------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残す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　　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ret_int_r_rte: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　　　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-----------------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残す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　　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kernel_interrupt: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　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----------------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残す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　　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kernel_exception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　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----------------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例外処理　削除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interrupt.c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　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----------------------------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割り込み機能　未実装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exception.c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　　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--------------------------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例外処理　削除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このセクションの目的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シュリンク版の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SP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を作成する過程において、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SP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のソースの構成およびソースそのものを理解する必要があり、その中で取捨選択を繰り返した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　その目線で、どのような取捨選択をしたかをここで説明します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ファイルモジュール表　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84360" y="1916280"/>
          <a:ext cx="7772400" cy="4644720"/>
        </p:xfrm>
        <a:graphic>
          <a:graphicData uri="http://schemas.openxmlformats.org/drawingml/2006/table">
            <a:tbl>
              <a:tblPr/>
              <a:tblGrid>
                <a:gridCol w="1128960"/>
                <a:gridCol w="861840"/>
                <a:gridCol w="1627200"/>
                <a:gridCol w="1895400"/>
                <a:gridCol w="2259000"/>
              </a:tblGrid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ファイル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場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モジュール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呼び出し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説明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start.sr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arc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_star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_sta_k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_software_init_hoo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_hardware_init_hoo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__kernel_istkp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kernel_cfg.c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にて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"_kernel_istkpt"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の値を決定する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target_support.sr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targe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_hardware_init_hoo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_software_init_hoo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startup.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kerne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sta_k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target_initialize()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削除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initialize_object()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kernel_cfg.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call_inirtn()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kernel_cfg.c  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削除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start_dispatch()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ext_k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未実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exit_kerne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未実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target_config.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targe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target_initializ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prc_initialize()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ターゲット固有の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SIO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ドライ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target_exi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rx600_uart_init 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その後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SIO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の初期化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target_fput_lo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各モジュールの説明　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start.src---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基本的に開発環境のもの（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HEW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ウイザード）のものを利用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target_support.src---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ターゲット固有のドライバは持たな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startup.c ----sta_ker()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を実装。ターゲット初期化および割り込みベクター初期化は削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target_config.c ----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ターゲット固有のドライバは持たな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ファイルモジュール表　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684360" y="1844640"/>
          <a:ext cx="7772400" cy="4476600"/>
        </p:xfrm>
        <a:graphic>
          <a:graphicData uri="http://schemas.openxmlformats.org/drawingml/2006/table">
            <a:tbl>
              <a:tblPr/>
              <a:tblGrid>
                <a:gridCol w="1128960"/>
                <a:gridCol w="861840"/>
                <a:gridCol w="1627200"/>
                <a:gridCol w="1895400"/>
                <a:gridCol w="2259000"/>
              </a:tblGrid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ファイル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場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モジュール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呼び出し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説明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prc_config.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arc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prc_initializ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intnest = 1U; 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のみ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prc_termina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割り込みベクタ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xlog_sy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x_config_in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default_int_handl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default_exc_handl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rx600_usrt.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targe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ＳＩＯドライ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target_serial.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targe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SIO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ドライ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target_timer.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targe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タイマードライ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banner.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syssv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バナ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serial.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syssv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SIO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ドライ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banner.t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syssv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ここでバナーの固定テーブルのテンプレート</a:t>
                      </a:r>
                      <a:br>
                        <a:rPr sz="1100"/>
                      </a:b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があるので削除した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kerbel_cfg.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_kernel_initialize_objec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_kernel_initialize_task()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_kernel_initialize_interrupt()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割り込みベクタの初期化　削除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_kernel_initialize_exception()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例外ベクタの初期化　削除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各モジュールの説明　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prc_config.c ----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ターゲット固有のドライバは持たな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rx600_usrt.c ----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ターゲット固有のドライバは持たな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target_serial.c ----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ターゲット固有のドライバは持たな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target_timer.c  ----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ターゲット固有のドライバは持たな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banner.c ----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バナーはとりあえず無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serial.c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　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----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ターゲット固有のドライバは持たな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banner.tf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　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----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バナーはとりあえず無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kernel_cfg.c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kernel_initialize_task ----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残す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　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kernel_initialize_interrupt()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----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割り込みベクタの初期化　削除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　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kernel_initialize_exception()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----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例外ベクタの初期化　削除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ファイルモジュール表　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3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755640" y="1916280"/>
          <a:ext cx="7772400" cy="4143240"/>
        </p:xfrm>
        <a:graphic>
          <a:graphicData uri="http://schemas.openxmlformats.org/drawingml/2006/table">
            <a:tbl>
              <a:tblPr/>
              <a:tblGrid>
                <a:gridCol w="1128960"/>
                <a:gridCol w="861840"/>
                <a:gridCol w="1627200"/>
                <a:gridCol w="1895400"/>
                <a:gridCol w="2259000"/>
              </a:tblGrid>
              <a:tr h="303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ファイル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場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モジュール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呼び出し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説明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task.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kerne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initialize_tas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タスク情報の初期化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2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get_ipri_sel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get_ipr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bitmap_searc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primap_empt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primap_serac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2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primap_tes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primap_se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primap_clea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swerach_schedts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test_dorman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2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make_activ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run_ts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dispatch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各モジュールの説明　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3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task.c ---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タスク処理　残す　そのま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ファイルモジュール表　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4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539640" y="1844640"/>
          <a:ext cx="7772400" cy="4370400"/>
        </p:xfrm>
        <a:graphic>
          <a:graphicData uri="http://schemas.openxmlformats.org/drawingml/2006/table">
            <a:tbl>
              <a:tblPr/>
              <a:tblGrid>
                <a:gridCol w="1128960"/>
                <a:gridCol w="861840"/>
                <a:gridCol w="1627200"/>
                <a:gridCol w="1895400"/>
                <a:gridCol w="2259000"/>
              </a:tblGrid>
              <a:tr h="339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ファイル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場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モジュール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呼び出し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説明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prc_support.sr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arc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__kernel_start_dispatc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起動時のディスパッチャ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__kernel_call_exit_kerne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カーネル出口処理　未実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ret_in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割り込みからのディスパッチャ入口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ret_int_r_rte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割り込みで割り込みがひとつネストを戻して戻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_kernel_interrupt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割り込みハンドラ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_kernel_excep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CPU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例外 削除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2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interrupt.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kerne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initialize_interrup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割り込み情報のテーブル初期化をしている</a:t>
                      </a:r>
                      <a:br>
                        <a:rPr sz="1100"/>
                      </a:b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この辺は手動にするので、削除する方向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dis_in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ユーザー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AP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ena_in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ユーザー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AP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exception.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kerne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initialize_excep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CPU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例外のベクタ等の設定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1T08:19:45Z</dcterms:created>
  <dc:creator>takahashi</dc:creator>
  <dc:description/>
  <dc:language>en-US</dc:language>
  <cp:lastModifiedBy>takahashi</cp:lastModifiedBy>
  <dcterms:modified xsi:type="dcterms:W3CDTF">2014-07-21T08:36:46Z</dcterms:modified>
  <cp:revision>2</cp:revision>
  <dc:subject/>
  <dc:title>シュリンク版SSPの開発過程にみるSSPのソース</dc:title>
</cp:coreProperties>
</file>