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5E7-1643-4FE6-A1E6-A6E84FE4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B7D-F67D-4470-B1F4-185EF538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99C-8CB2-4761-A73E-CF2857DC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A4CA-30CD-47FF-AD63-BBC43498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168-0A9E-4E1F-AF6E-6C5DD9ED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2624-5CB0-4953-8F3B-BFB244B0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807F-D649-4333-BB1E-D9DDE5D5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C4ED-9051-4375-85B1-49BAE7F8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A56-AD57-4F3D-80B9-A5836553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F9E0-BA97-454F-B456-7D1E9448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F7B-77C1-45F3-8D15-2378AE01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A9AC-29FA-464C-A100-B80D8CD8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3651-7C0E-4B1B-BD88-5FC8E5659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7040" y="906840"/>
            <a:ext cx="100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ScriptM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4280" y="1560600"/>
            <a:ext cx="23072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ScrInit(scrname,</a:t>
            </a:r>
            <a:r>
              <a:rPr b="0" lang="en-US" sz="900" spc="-1" strike="noStrike">
                <a:solidFill>
                  <a:srgbClr val="ff6600"/>
                </a:solidFill>
                <a:latin typeface="ＭＳ ゴシック"/>
                <a:ea typeface="ＭＳ ゴシック"/>
              </a:rPr>
              <a:t>NULL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,</a:t>
            </a:r>
            <a:r>
              <a:rPr b="0" lang="en-US" sz="900" spc="-1" strike="noStrike">
                <a:solidFill>
                  <a:srgbClr val="ff6600"/>
                </a:solidFill>
                <a:latin typeface="ＭＳ ゴシック"/>
                <a:ea typeface="ＭＳ ゴシック"/>
              </a:rPr>
              <a:t>NULL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4" idx="3"/>
            <a:endCxn id="45" idx="1"/>
          </p:cNvCxnSpPr>
          <p:nvPr/>
        </p:nvCxnSpPr>
        <p:spPr>
          <a:xfrm flipH="1" flipV="1">
            <a:off x="2519280" y="1022400"/>
            <a:ext cx="12600" cy="29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7" idx="3"/>
            <a:endCxn id="48" idx="1"/>
          </p:cNvCxnSpPr>
          <p:nvPr/>
        </p:nvCxnSpPr>
        <p:spPr>
          <a:xfrm>
            <a:off x="4844880" y="1676160"/>
            <a:ext cx="399960" cy="57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324000" y="907920"/>
            <a:ext cx="2160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907920"/>
            <a:ext cx="20876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4280" y="1200240"/>
            <a:ext cx="23072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ScrMemInit(name,</a:t>
            </a:r>
            <a:r>
              <a:rPr b="0" lang="en-US" sz="900" spc="-1" strike="noStrike">
                <a:solidFill>
                  <a:srgbClr val="ff6600"/>
                </a:solidFill>
                <a:latin typeface="ＭＳ ゴシック"/>
                <a:ea typeface="ＭＳ ゴシック"/>
              </a:rPr>
              <a:t>NULL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,</a:t>
            </a:r>
            <a:r>
              <a:rPr b="0" lang="en-US" sz="900" spc="-1" strike="noStrike">
                <a:solidFill>
                  <a:srgbClr val="ff6600"/>
                </a:solidFill>
                <a:latin typeface="ＭＳ ゴシック"/>
                <a:ea typeface="ＭＳ ゴシック"/>
              </a:rPr>
              <a:t>NULL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19280" y="906840"/>
            <a:ext cx="237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ScrMemInit(name,leaf0,pro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37080" y="2131920"/>
            <a:ext cx="295128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44480" y="2130840"/>
            <a:ext cx="251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ScrSetUp(procname,leaf0,pro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06760" y="1560600"/>
            <a:ext cx="22381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ScrSetUp(NULL,leaf0,pro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2932200"/>
            <a:ext cx="2822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cuteScrProc(</a:t>
            </a:r>
            <a:r>
              <a:rPr b="0" lang="en-US" sz="900" spc="-1" strike="noStrike">
                <a:solidFill>
                  <a:srgbClr val="ff6600"/>
                </a:solidFill>
                <a:latin typeface="ＭＳ ゴシック"/>
                <a:ea typeface="ＭＳ ゴシック"/>
              </a:rPr>
              <a:t>NULL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,</a:t>
            </a:r>
            <a:r>
              <a:rPr b="0" lang="en-US" sz="900" spc="-1" strike="noStrike">
                <a:solidFill>
                  <a:srgbClr val="ff6600"/>
                </a:solidFill>
                <a:latin typeface="ＭＳ ゴシック"/>
                <a:ea typeface="ＭＳ ゴシック"/>
              </a:rPr>
              <a:t>NULL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,scrprct,exprocna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88040" y="2422440"/>
            <a:ext cx="292392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f (leaf0) rc = dmSCparmset(leaf0,proc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lse rc = dmParameterSet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29440" y="3932280"/>
            <a:ext cx="251928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91120" y="3931200"/>
            <a:ext cx="306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cuteScrProc(pLeaf,pProc,scrprct,na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35840" y="4149720"/>
            <a:ext cx="223812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f (pLeaf &amp;&amp; pPro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SetExecParm(pLeaf,pPro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7280" y="4656240"/>
            <a:ext cx="11408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MkLkProcCT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2160" y="3213000"/>
            <a:ext cx="2854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2060640"/>
            <a:ext cx="230364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9040" y="2059560"/>
            <a:ext cx="230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ScrInit(scrname,leaf,pro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28440" y="2352960"/>
            <a:ext cx="25124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ScrFileInit(name,p,leaf,pro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773360"/>
            <a:ext cx="4316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2852640"/>
            <a:ext cx="27370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12600" y="2851560"/>
            <a:ext cx="306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ScrFileInit(name,procname,leaf0,pro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2565360"/>
            <a:ext cx="503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716360" y="2276640"/>
            <a:ext cx="71928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4221000"/>
            <a:ext cx="230328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560" y="4219920"/>
            <a:ext cx="162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PrExecSC(leaf,pro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160" y="4513320"/>
            <a:ext cx="2169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ScrInit(name,leaf,proc)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4941720"/>
            <a:ext cx="2303280" cy="9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560" y="4939200"/>
            <a:ext cx="162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PrExecIP(leaf,pro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8880" y="5232600"/>
            <a:ext cx="237528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cuteProc(leaf,proc,namebu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14560" y="5587920"/>
            <a:ext cx="316872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39240" y="5586840"/>
            <a:ext cx="230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cuteProc(pLeaf,pProc,na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06840" y="5880240"/>
            <a:ext cx="3609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cuteScrProc(pLeaf,pProc,dmSearchSrcCt(),na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4510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39640" y="227628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263700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4149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195280" y="465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11280" y="5373720"/>
            <a:ext cx="505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796000" y="4076280"/>
            <a:ext cx="431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948280"/>
            <a:ext cx="230328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320" y="5947200"/>
            <a:ext cx="155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cProcName(na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160" y="6240600"/>
            <a:ext cx="21697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cuteProc(</a:t>
            </a:r>
            <a:r>
              <a:rPr b="0" lang="en-US" sz="900" spc="-1" strike="noStrike">
                <a:solidFill>
                  <a:srgbClr val="ff6600"/>
                </a:solidFill>
                <a:latin typeface="ＭＳ ゴシック"/>
                <a:ea typeface="ＭＳ ゴシック"/>
              </a:rPr>
              <a:t>NULL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,</a:t>
            </a:r>
            <a:r>
              <a:rPr b="0" lang="en-US" sz="900" spc="-1" strike="noStrike">
                <a:solidFill>
                  <a:srgbClr val="ff6600"/>
                </a:solidFill>
                <a:latin typeface="ＭＳ ゴシック"/>
                <a:ea typeface="ＭＳ ゴシック"/>
              </a:rPr>
              <a:t>NULL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,na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195640" y="573372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35200" y="1200240"/>
            <a:ext cx="189540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MkScrMemAndReg(mem,le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8360" y="907920"/>
            <a:ext cx="158436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7240" y="906840"/>
            <a:ext cx="189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MkScrMemAndReg(mem,le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51960" y="1200240"/>
            <a:ext cx="10724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MkScrPrCT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356000" y="980640"/>
            <a:ext cx="792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14920" y="3144960"/>
            <a:ext cx="155232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LruScrSrc(scrna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74600" y="3432240"/>
            <a:ext cx="20325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MkScrAndReg(</a:t>
            </a:r>
            <a:r>
              <a:rPr b="0" lang="en-US" sz="900" spc="-1" strike="noStrike">
                <a:solidFill>
                  <a:srgbClr val="ff6600"/>
                </a:solidFill>
                <a:latin typeface="ＭＳ ゴシック"/>
                <a:ea typeface="ＭＳ ゴシック"/>
              </a:rPr>
              <a:t>NULL</a:t>
            </a: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,scrna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4365720"/>
            <a:ext cx="187164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21600" y="436464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MkScrAndReg(scrct,scrna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51280" y="4948200"/>
            <a:ext cx="1657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f (!scrct) dmMkScrPrCT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60560" y="4656240"/>
            <a:ext cx="13467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LexSyn(scrna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51280" y="3570120"/>
            <a:ext cx="720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88920" y="3719880"/>
            <a:ext cx="306108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ScrSetUp(procname,leaf0,proc,scrprc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87200"/>
            <a:ext cx="216036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560" y="186120"/>
            <a:ext cx="162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PrExecSM(leaf,pro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8880" y="479520"/>
            <a:ext cx="237528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ExeScrMemInit(name,leaf,proc)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47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62064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03000" y="3338640"/>
            <a:ext cx="21009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PRparmset(proc,exprocna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7920" y="5570640"/>
            <a:ext cx="189540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mPRparmset(proc,namebu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05:35:33Z</dcterms:created>
  <dc:creator>CSK</dc:creator>
  <dc:description/>
  <dc:language>en-US</dc:language>
  <cp:lastModifiedBy>CSK</cp:lastModifiedBy>
  <dcterms:modified xsi:type="dcterms:W3CDTF">2009-06-22T08:04:17Z</dcterms:modified>
  <cp:revision>5</cp:revision>
  <dc:subject/>
  <dc:title>スライド 1</dc:title>
</cp:coreProperties>
</file>