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646-BF05-4701-B210-82F9BE4D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79A-3945-4E7D-85FB-B03D5124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E5F-0583-4750-A857-D92B2012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B4D-6F41-4FAA-AC68-00258C35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1CE-F392-436C-BB94-901F1D55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5D4-2E3B-4DAF-A56C-7B299269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D27-9DE4-47C5-84E0-A7FA68B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6CB-5A0A-4B16-ABAE-DBE8C67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F02-25D9-404C-A790-DDDB649B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237-61BA-43C3-8B27-AD293C08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ABC-EE9A-475C-866D-790FDAB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C68-4131-4F6A-A617-9523F34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42AB-C134-4ED9-8720-7D4829B4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040" y="90684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ScriptM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280" y="1560600"/>
            <a:ext cx="2307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Init(scrname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4" idx="3"/>
            <a:endCxn id="45" idx="1"/>
          </p:cNvCxnSpPr>
          <p:nvPr/>
        </p:nvCxnSpPr>
        <p:spPr>
          <a:xfrm flipH="1" flipV="1">
            <a:off x="2519280" y="1022400"/>
            <a:ext cx="12600" cy="29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>
            <a:off x="4844880" y="1676160"/>
            <a:ext cx="39996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24000" y="907920"/>
            <a:ext cx="2160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907920"/>
            <a:ext cx="20876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280" y="1200240"/>
            <a:ext cx="2307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MemInit(name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9280" y="906840"/>
            <a:ext cx="23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MemInit(name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7080" y="2131920"/>
            <a:ext cx="29512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44480" y="2130840"/>
            <a:ext cx="251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SetUp(procname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06760" y="1560600"/>
            <a:ext cx="22381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SetUp(NULL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932200"/>
            <a:ext cx="282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ScrProc(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scrprct,exproc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88040" y="2422440"/>
            <a:ext cx="29239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f (leaf0) rc = dmSCparmset(leaf0,proc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lse rc = dmParameterSe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29440" y="3932280"/>
            <a:ext cx="25192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91120" y="3931200"/>
            <a:ext cx="306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ScrProc(pLeaf,pProc,scrprct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35840" y="4149720"/>
            <a:ext cx="22381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f (pLeaf &amp;&amp; p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SetExecParm(pLeaf,p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280" y="4656240"/>
            <a:ext cx="11408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LkProcC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2160" y="3213000"/>
            <a:ext cx="2854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060640"/>
            <a:ext cx="230364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9040" y="2059560"/>
            <a:ext cx="23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Init(scrname,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8440" y="2352960"/>
            <a:ext cx="2512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FileInit(name,p,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773360"/>
            <a:ext cx="4316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852640"/>
            <a:ext cx="273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2600" y="2851560"/>
            <a:ext cx="306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FileInit(name,procname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256536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16360" y="227664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221000"/>
            <a:ext cx="23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560" y="4219920"/>
            <a:ext cx="16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ExecSC(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160" y="4513320"/>
            <a:ext cx="2169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Init(name,leaf,proc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941720"/>
            <a:ext cx="23032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560" y="4939200"/>
            <a:ext cx="16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ExecIP(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8880" y="5232600"/>
            <a:ext cx="2375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Proc(leaf,proc,namebu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4560" y="5587920"/>
            <a:ext cx="316872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9240" y="5586840"/>
            <a:ext cx="23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Proc(pLeaf,pProc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6840" y="5880240"/>
            <a:ext cx="3609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ScrProc(pLeaf,pProc,dmSearchSrcCt()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451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39640" y="2276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2637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149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19528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5373720"/>
            <a:ext cx="50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796000" y="4076280"/>
            <a:ext cx="43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948280"/>
            <a:ext cx="23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320" y="59472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ProcName(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160" y="6240600"/>
            <a:ext cx="2169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Proc(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95640" y="573372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1200240"/>
            <a:ext cx="1895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MemAndReg(mem,le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907920"/>
            <a:ext cx="1584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7240" y="906840"/>
            <a:ext cx="189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MemAndReg(mem,le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51960" y="1200240"/>
            <a:ext cx="1072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PrC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56000" y="980640"/>
            <a:ext cx="792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14920" y="3144960"/>
            <a:ext cx="15523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LruScrSrc(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4600" y="3432240"/>
            <a:ext cx="20325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AndReg(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4365720"/>
            <a:ext cx="1871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21600" y="436464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AndReg(scrct,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4948200"/>
            <a:ext cx="165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f (!scrct) dmMkScrPrC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60560" y="4656240"/>
            <a:ext cx="13467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LexSyn(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357012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88920" y="3719880"/>
            <a:ext cx="306108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SetUp(procname,leaf0,proc,scrprc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7200"/>
            <a:ext cx="2160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560" y="186120"/>
            <a:ext cx="16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ExecSM(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8880" y="479520"/>
            <a:ext cx="2375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MemInit(name,leaf,proc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7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62064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3000" y="3338640"/>
            <a:ext cx="2100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parmset(proc,exproc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7920" y="5570640"/>
            <a:ext cx="1895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parmset(proc,namebu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5:35:33Z</dcterms:created>
  <dc:creator>CSK</dc:creator>
  <dc:description/>
  <dc:language>en-US</dc:language>
  <cp:lastModifiedBy>CSK</cp:lastModifiedBy>
  <dcterms:modified xsi:type="dcterms:W3CDTF">2009-06-22T08:04:17Z</dcterms:modified>
  <cp:revision>5</cp:revision>
  <dc:subject/>
  <dc:title>スライド 1</dc:title>
</cp:coreProperties>
</file>