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59280" y="2602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59280" y="2602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1280" y="-1440"/>
            <a:ext cx="9072720" cy="6815160"/>
            <a:chOff x="71280" y="-1440"/>
            <a:chExt cx="9072720" cy="6815160"/>
          </a:xfrm>
        </p:grpSpPr>
        <p:sp>
          <p:nvSpPr>
            <p:cNvPr id="1" name=""/>
            <p:cNvSpPr/>
            <p:nvPr/>
          </p:nvSpPr>
          <p:spPr>
            <a:xfrm>
              <a:off x="4643280" y="6597720"/>
              <a:ext cx="41198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© </a:t>
              </a: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Copyright The Seasar Project and others 2004. all rights reserved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71280" y="-1440"/>
              <a:ext cx="2916360" cy="13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619280" y="836640"/>
              <a:ext cx="7524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643280" y="6597720"/>
              <a:ext cx="450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748720" y="6454800"/>
              <a:ext cx="287280" cy="287280"/>
            </a:xfrm>
            <a:prstGeom prst="ellipse">
              <a:avLst/>
            </a:prstGeom>
            <a:solidFill>
              <a:srgbClr val="ff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F4CEA32A-0952-44DC-8A28-50508E60AA28}" type="slidenum"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395280" y="1268280"/>
            <a:ext cx="8748720" cy="5545440"/>
            <a:chOff x="395280" y="1268280"/>
            <a:chExt cx="8748720" cy="5545440"/>
          </a:xfrm>
        </p:grpSpPr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395280" y="1268280"/>
              <a:ext cx="3600360" cy="16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340000" y="2349360"/>
              <a:ext cx="680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643280" y="6597720"/>
              <a:ext cx="41198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© </a:t>
              </a: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Copyright The Seasar Project and others 2004. all rights reserved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43280" y="6597720"/>
              <a:ext cx="450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748720" y="6454800"/>
              <a:ext cx="287280" cy="287280"/>
            </a:xfrm>
            <a:prstGeom prst="ellipse">
              <a:avLst/>
            </a:prstGeom>
            <a:solidFill>
              <a:srgbClr val="ff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-doi@olug.gr.jp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脱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B-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er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プリケーション開発事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沖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ユーザ会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U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土居俊彦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I Toshihik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-doi@olug.gr.j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ネクションプーリン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log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spher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等のプーリングを利用することも可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業務ロジックの実行の為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ーバが必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テストしづら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s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独自のプーリン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あれば良いので、テストが容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JD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単純な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コーディングレスで発行可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動的な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自分でコーディン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で解消！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47920" y="3718080"/>
            <a:ext cx="6705360" cy="2702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onent name=“fooSelectHandler"        class="org.seasar.extension.jdbc.impl.BasicSelectHandler"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spect&gt;j2ee.requiredTx&lt;/aspec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property name="sql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"SELECT column1, column2 FROM ATABLE WHERE column1 = ?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propert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property name="resultSetHandler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component class="org.seasar.extension.jdbc.impl.BeanResultSetHandler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rg&gt;@org.t_doi.db.Foo@class&lt;/arg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compon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propert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compon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データを設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テスト終了後に勝手にロールバッ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295280" y="3352680"/>
            <a:ext cx="6705720" cy="12045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ublic void testSearchTx(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adXlsAllReplaceDb("./testdata/foo-info.xls"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o result = search.search("902"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sertEquals(902, foo.getId(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962520"/>
            <a:ext cx="2057400" cy="990360"/>
          </a:xfrm>
          <a:prstGeom prst="wedgeRoundRectCallout">
            <a:avLst>
              <a:gd name="adj1" fmla="val -100541"/>
              <a:gd name="adj2" fmla="val -66504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l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にテストデータを用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Str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へ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適用も可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ービスクラス（業務ロジック）のインスタンス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から設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3753000"/>
            <a:ext cx="6705360" cy="26517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ublic class FooAction extends Action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ivate FooLogic fooLogic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ublic FooAction (FooLogic fooLogic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is. fooLogic = fooLogic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ublic ActionForward execute(…)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oLogic.foo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91320" y="4495680"/>
            <a:ext cx="2057400" cy="990720"/>
          </a:xfrm>
          <a:prstGeom prst="wedgeRoundRectCallout">
            <a:avLst>
              <a:gd name="adj1" fmla="val -92824"/>
              <a:gd name="adj2" fmla="val -52564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se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から設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画面（プレゼンテーション）と業務ロジックを個別に開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tsTest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仕様変更時には全テストを再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生産ステップ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3.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/step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予定は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/st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開発が楽しい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219320" y="2590920"/>
            <a:ext cx="2133360" cy="2133360"/>
          </a:xfrm>
          <a:prstGeom prst="ellipse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6720" y="4191120"/>
            <a:ext cx="3733560" cy="2209680"/>
          </a:xfrm>
          <a:prstGeom prst="ellipse">
            <a:avLst/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43200" y="5105520"/>
            <a:ext cx="1905120" cy="685800"/>
          </a:xfrm>
          <a:prstGeom prst="leftArrow">
            <a:avLst>
              <a:gd name="adj1" fmla="val 50000"/>
              <a:gd name="adj2" fmla="val 694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システム概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某社向けテレビ会議システ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j0223504" descr=""/>
          <p:cNvPicPr/>
          <p:nvPr/>
        </p:nvPicPr>
        <p:blipFill>
          <a:blip r:embed="rId1"/>
          <a:stretch/>
        </p:blipFill>
        <p:spPr>
          <a:xfrm>
            <a:off x="1981080" y="2666880"/>
            <a:ext cx="633600" cy="738360"/>
          </a:xfrm>
          <a:prstGeom prst="rect">
            <a:avLst/>
          </a:prstGeom>
          <a:ln w="0">
            <a:noFill/>
          </a:ln>
        </p:spPr>
      </p:pic>
      <p:pic>
        <p:nvPicPr>
          <p:cNvPr id="96" name="j0223506" descr=""/>
          <p:cNvPicPr/>
          <p:nvPr/>
        </p:nvPicPr>
        <p:blipFill>
          <a:blip r:embed="rId2"/>
          <a:stretch/>
        </p:blipFill>
        <p:spPr>
          <a:xfrm>
            <a:off x="4876920" y="4856040"/>
            <a:ext cx="1292040" cy="1163880"/>
          </a:xfrm>
          <a:prstGeom prst="rect">
            <a:avLst/>
          </a:prstGeom>
          <a:ln w="0">
            <a:noFill/>
          </a:ln>
        </p:spPr>
      </p:pic>
      <p:pic>
        <p:nvPicPr>
          <p:cNvPr id="97" name="j0223506" descr=""/>
          <p:cNvPicPr/>
          <p:nvPr/>
        </p:nvPicPr>
        <p:blipFill>
          <a:blip r:embed="rId3"/>
          <a:stretch/>
        </p:blipFill>
        <p:spPr>
          <a:xfrm>
            <a:off x="4952880" y="2819520"/>
            <a:ext cx="1292400" cy="1163520"/>
          </a:xfrm>
          <a:prstGeom prst="rect">
            <a:avLst/>
          </a:prstGeom>
          <a:ln w="0">
            <a:noFill/>
          </a:ln>
        </p:spPr>
      </p:pic>
      <p:pic>
        <p:nvPicPr>
          <p:cNvPr id="98" name="j0223504" descr=""/>
          <p:cNvPicPr/>
          <p:nvPr/>
        </p:nvPicPr>
        <p:blipFill>
          <a:blip r:embed="rId4"/>
          <a:stretch/>
        </p:blipFill>
        <p:spPr>
          <a:xfrm>
            <a:off x="1219320" y="3352680"/>
            <a:ext cx="633240" cy="738360"/>
          </a:xfrm>
          <a:prstGeom prst="rect">
            <a:avLst/>
          </a:prstGeom>
          <a:ln w="0">
            <a:noFill/>
          </a:ln>
        </p:spPr>
      </p:pic>
      <p:pic>
        <p:nvPicPr>
          <p:cNvPr id="99" name="j0223504" descr=""/>
          <p:cNvPicPr/>
          <p:nvPr/>
        </p:nvPicPr>
        <p:blipFill>
          <a:blip r:embed="rId5"/>
          <a:stretch/>
        </p:blipFill>
        <p:spPr>
          <a:xfrm>
            <a:off x="1905120" y="3986280"/>
            <a:ext cx="633240" cy="73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819520" y="3276720"/>
            <a:ext cx="2057400" cy="761760"/>
          </a:xfrm>
          <a:prstGeom prst="rightArrow">
            <a:avLst>
              <a:gd name="adj1" fmla="val 50000"/>
              <a:gd name="adj2" fmla="val 675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5067000" y="4152240"/>
            <a:ext cx="762120" cy="533520"/>
          </a:xfrm>
          <a:prstGeom prst="leftArrow">
            <a:avLst>
              <a:gd name="adj1" fmla="val 50000"/>
              <a:gd name="adj2" fmla="val 357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j0223504" descr=""/>
          <p:cNvPicPr/>
          <p:nvPr/>
        </p:nvPicPr>
        <p:blipFill>
          <a:blip r:embed="rId6"/>
          <a:stretch/>
        </p:blipFill>
        <p:spPr>
          <a:xfrm>
            <a:off x="1981080" y="5181480"/>
            <a:ext cx="633600" cy="738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276720" y="3429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録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724280" y="4114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情報登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52680" y="5181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視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05720" y="3886200"/>
            <a:ext cx="1523880" cy="914400"/>
          </a:xfrm>
          <a:prstGeom prst="wedgeEllipseCallout">
            <a:avLst>
              <a:gd name="adj1" fmla="val -66875"/>
              <a:gd name="adj2" fmla="val 64236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81680" y="41148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aser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適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3429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会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開発概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レームワークとし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採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開発予定規模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/st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工程は詳細設計から結合テストま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開発期間は約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ヶ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ーディング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開発要員は４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問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業務ロジックをどうする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特にトランザクション制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オリジナルフレームワークの採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利用？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er Managed Transa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アプリケーションサーバは高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などは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採用するほどのシステム規模ではな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採用　その理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コンセプトが良かっ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解体と再構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易しさと優しさ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日本語ドキュメントが充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インターフェイス指向（？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DD(Test Driven Development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の相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bC(Design by Contract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の相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分が沖縄在住であ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分が使ってみたかったか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ログラマを楽しくさせる何かがそこに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914400" y="2209680"/>
            <a:ext cx="3276720" cy="213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キラーフレームワークの予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19320" y="1981080"/>
            <a:ext cx="2743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プレゼンテーショ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2209680"/>
            <a:ext cx="3505320" cy="213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029200" y="1981080"/>
            <a:ext cx="2743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業務ロジッ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23880" y="2819520"/>
            <a:ext cx="1981440" cy="99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28800" y="30481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？？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4495680"/>
            <a:ext cx="121896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4572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ape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05120" y="4952880"/>
            <a:ext cx="121896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8108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b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4572000"/>
            <a:ext cx="121932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76720" y="466236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r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7698600">
            <a:off x="1409760" y="3885840"/>
            <a:ext cx="838080" cy="457200"/>
          </a:xfrm>
          <a:prstGeom prst="leftArrow">
            <a:avLst>
              <a:gd name="adj1" fmla="val 50000"/>
              <a:gd name="adj2" fmla="val 4582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rot="13901400">
            <a:off x="2933280" y="3847680"/>
            <a:ext cx="838080" cy="457560"/>
          </a:xfrm>
          <a:prstGeom prst="leftArrow">
            <a:avLst>
              <a:gd name="adj1" fmla="val 50000"/>
              <a:gd name="adj2" fmla="val 45791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362320" y="3886200"/>
            <a:ext cx="457200" cy="914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4120" y="2819520"/>
            <a:ext cx="1981080" cy="99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30481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？？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724280" y="4710240"/>
            <a:ext cx="121932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4800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ＥＪ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7698600">
            <a:off x="5219280" y="4000320"/>
            <a:ext cx="838440" cy="457200"/>
          </a:xfrm>
          <a:prstGeom prst="leftArrow">
            <a:avLst>
              <a:gd name="adj1" fmla="val 50000"/>
              <a:gd name="adj2" fmla="val 45846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629400" y="3758400"/>
            <a:ext cx="1981080" cy="1880280"/>
            <a:chOff x="6629400" y="3758400"/>
            <a:chExt cx="1981080" cy="1880280"/>
          </a:xfrm>
        </p:grpSpPr>
        <p:grpSp>
          <p:nvGrpSpPr>
            <p:cNvPr id="137" name=""/>
            <p:cNvGrpSpPr/>
            <p:nvPr/>
          </p:nvGrpSpPr>
          <p:grpSpPr>
            <a:xfrm>
              <a:off x="6629400" y="4710240"/>
              <a:ext cx="1981080" cy="928440"/>
              <a:chOff x="6629400" y="4710240"/>
              <a:chExt cx="1981080" cy="928440"/>
            </a:xfrm>
          </p:grpSpPr>
          <p:sp>
            <p:nvSpPr>
              <p:cNvPr id="138" name=""/>
              <p:cNvSpPr/>
              <p:nvPr/>
            </p:nvSpPr>
            <p:spPr>
              <a:xfrm>
                <a:off x="6629400" y="4710240"/>
                <a:ext cx="1600200" cy="92844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781680" y="4906800"/>
                <a:ext cx="1828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ahoma"/>
                  </a:rPr>
                  <a:t>Seaser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 flipH="1" rot="13901400">
              <a:off x="6743520" y="4000320"/>
              <a:ext cx="838440" cy="456840"/>
            </a:xfrm>
            <a:prstGeom prst="leftArrow">
              <a:avLst>
                <a:gd name="adj1" fmla="val 50000"/>
                <a:gd name="adj2" fmla="val 45883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1219320" y="5715000"/>
            <a:ext cx="2743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比較的多い選択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使った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トランザクションの自動制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(Aspect Oriented Programm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ネクションプーリン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JD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Str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使わなかった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Hiber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Tape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トランザクションの自動制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JO(Plain Old Java Object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トランザクション制御を付加でき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テストする対象のトランザクション制御を気にしなくて良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429000"/>
            <a:ext cx="7238880" cy="249984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onent class=“org.t_doi.db.impl.FooDaoImpl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spect&gt;j2ee.requiredTx&lt;/aspec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compon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component class=“org.t_doi.db.impl.BarDaoImpl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spect&gt;j2ee.requiredTx&lt;/aspec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compon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component class=“org.t_doi.logic.impl.HogeLogicImpl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spect&gt;j2ee.requiredTx&lt;/aspec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compon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15000" y="3581280"/>
            <a:ext cx="2362320" cy="1067040"/>
          </a:xfrm>
          <a:prstGeom prst="wedgeRoundRectCallout">
            <a:avLst>
              <a:gd name="adj1" fmla="val -89314"/>
              <a:gd name="adj2" fmla="val -32143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データアクセ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（モデル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943600" y="4800600"/>
            <a:ext cx="2133720" cy="914400"/>
          </a:xfrm>
          <a:prstGeom prst="wedgeRoundRectCallout">
            <a:avLst>
              <a:gd name="adj1" fmla="val -106250"/>
              <a:gd name="adj2" fmla="val 14930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業務ロジックを実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spect Oriented Programm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ログ出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ＭＳ Ｐゴシック"/>
              </a:rPr>
              <a:t>TraceInterceptor</a:t>
            </a:r>
            <a:r>
              <a:rPr b="0" lang="ja-JP" sz="2800" spc="-1" strike="noStrike">
                <a:solidFill>
                  <a:srgbClr val="333333"/>
                </a:solidFill>
                <a:latin typeface="ＭＳ Ｐゴシック"/>
              </a:rPr>
              <a:t>を利用</a:t>
            </a:r>
            <a:r>
              <a:rPr b="0" lang="ja-JP" sz="2800" spc="-1" strike="noStrike">
                <a:solidFill>
                  <a:srgbClr val="333333"/>
                </a:solidFill>
                <a:latin typeface="ＭＳ Ｐゴシック"/>
              </a:rPr>
              <a:t>(</a:t>
            </a:r>
            <a:r>
              <a:rPr b="0" lang="en-US" sz="2800" spc="-1" strike="noStrike">
                <a:solidFill>
                  <a:srgbClr val="333333"/>
                </a:solidFill>
                <a:latin typeface="ＭＳ Ｐゴシック"/>
              </a:rPr>
              <a:t>Seaser</a:t>
            </a:r>
            <a:r>
              <a:rPr b="0" lang="ja-JP" sz="2800" spc="-1" strike="noStrike">
                <a:solidFill>
                  <a:srgbClr val="333333"/>
                </a:solidFill>
                <a:latin typeface="ＭＳ Ｐゴシック"/>
              </a:rPr>
              <a:t>に標準添付</a:t>
            </a:r>
            <a:r>
              <a:rPr b="0" lang="ja-JP" sz="2800" spc="-1" strike="noStrike">
                <a:solidFill>
                  <a:srgbClr val="333333"/>
                </a:solidFill>
                <a:latin typeface="ＭＳ Ｐゴシック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実行時間計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3767040"/>
            <a:ext cx="7238880" cy="16660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component name="processTimeInterceptor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ass=“org.t_doi.aop.ProcessTimeInterceptor"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component class=“org.t_doi.logic.impl.FooLogicImpl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spect&gt;j2ee.requiredTx&lt;/aspec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spect&gt;processTimeInterceptor&lt;/aspec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component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5880" y="3962520"/>
            <a:ext cx="1828800" cy="914400"/>
          </a:xfrm>
          <a:prstGeom prst="wedgeRoundRectCallout">
            <a:avLst>
              <a:gd name="adj1" fmla="val -114842"/>
              <a:gd name="adj2" fmla="val -32810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実行時間計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oshi</cp:lastModifiedBy>
  <dcterms:modified xsi:type="dcterms:W3CDTF">2004-06-05T15:34:18Z</dcterms:modified>
  <cp:revision>19</cp:revision>
  <dc:subject/>
  <dc:title>PowerPoint Presentation</dc:title>
</cp:coreProperties>
</file>