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7572-C351-4DB3-8C10-205EDEA34F0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F2BD-07EF-48D1-907A-FAD4F86AB49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4" idx="1"/>
            <a:endCxn id="133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2" idx="1"/>
            <a:endCxn id="141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1"/>
            <a:endCxn id="146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1"/>
            <a:endCxn id="153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1555920"/>
            <a:ext cx="6624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563920"/>
            <a:ext cx="842472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95920"/>
            <a:ext cx="842472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486900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242100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他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1052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1"/>
            <a:endCxn id="101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1"/>
            <a:endCxn id="119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09:30Z</dcterms:modified>
  <cp:revision>87</cp:revision>
  <dc:subject/>
  <dc:title>スライド 1</dc:title>
</cp:coreProperties>
</file>