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B457-146A-408D-A2C7-5FABD8E82AE2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669F-E279-44A1-B549-808782B4722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4436640"/>
            <a:ext cx="38815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東京初台 シモモトビ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株式会社グルージェン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栗原 傑享（まさた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tp://www.gluegen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5661000"/>
            <a:ext cx="1400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何かご質問はござい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09T07:13:18Z</dcterms:modified>
  <cp:revision>38</cp:revision>
  <dc:subject/>
  <dc:title>スライド 1</dc:title>
</cp:coreProperties>
</file>