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5D22-8483-4ADF-85E9-7EAF8EC20C53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DFE8-EF06-4F76-89ED-B8CE71CE1132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超入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木村　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Servl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.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登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1981080"/>
            <a:ext cx="8381880" cy="441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web-ap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display-name&gt;S2Struts Application&lt;/display-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ervle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ervlet-name&gt;s2container&lt;/servlet-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ervlet-class&gt;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S2StrutsServlet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ervlet-clas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load-on-startup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ervle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web-ap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RequestProcess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.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登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2536920"/>
            <a:ext cx="8305920" cy="3180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truts-confi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ntroller processorClass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S2RequestProcessor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truts-confi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以上で、実装は終わ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行時に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が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対してサービスコンポーネントを自動で設定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セッターインジェク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3375000"/>
            <a:ext cx="7772400" cy="3485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AddActio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set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AddService  addService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addService = addService;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れ以外の方法（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ストラクタインジェク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155680"/>
            <a:ext cx="7772400" cy="3644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Action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AddService  addService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addService = addService;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れ以外の方法（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インジェク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2155680"/>
            <a:ext cx="7772400" cy="3644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hog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AddService  addService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addService = addService;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れ以外の方法（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インジェク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905120"/>
            <a:ext cx="8305920" cy="487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ddServic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org.seasar.struts.examples.AddServiceImpl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examples.AddAction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itMethod name=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hog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スペクトを適用したい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アスペクトを適用した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追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2308320"/>
            <a:ext cx="8305920" cy="440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class="org.seasar.struts.examples.MultiplyActio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&lt;aspect pointcut="execute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&lt;component class=</a:t>
            </a:r>
            <a:br>
              <a:rPr sz="2000"/>
            </a:b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 "org.seasar.framework.aop.interceptors.TraceIntercepto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インスタンス変数を持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属性の変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ノーマル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インスタンス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プーリングし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RequestProcess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内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で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905120"/>
            <a:ext cx="8305920" cy="2094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instance="prototyp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"org.seasar.struts.examples.AddAction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内部構造につい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キーワード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コンポーネン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Request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Servl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の初期化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内部構造につい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適用箇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1143000"/>
            <a:ext cx="5715000" cy="5105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tr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62920" y="1143000"/>
            <a:ext cx="1828800" cy="51055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5105520"/>
              <a:gd name="textAreaBottom" fmla="*/ 5016240 h 5105520"/>
            </a:gdLst>
            <a:ahLst/>
            <a:rect l="textAreaLeft" t="textAreaTop" r="textAreaRight" b="textAreaBottom"/>
            <a:pathLst>
              <a:path w="21600" h="60294">
                <a:moveTo>
                  <a:pt x="3600" y="0"/>
                </a:moveTo>
                <a:arcTo wR="3600" hR="3600" stAng="16200000" swAng="-5400000"/>
                <a:lnTo>
                  <a:pt x="0" y="56694"/>
                </a:lnTo>
                <a:arcTo wR="3600" hR="3600" stAng="10800000" swAng="-5400000"/>
                <a:lnTo>
                  <a:pt x="18000" y="602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ビ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ジ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ネ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ス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ロ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ジ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ッ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133720"/>
            <a:ext cx="838440" cy="2743200"/>
          </a:xfrm>
          <a:prstGeom prst="downArrow">
            <a:avLst>
              <a:gd name="adj1" fmla="val 50000"/>
              <a:gd name="adj2" fmla="val 817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1295280"/>
            <a:ext cx="2514600" cy="762120"/>
          </a:xfrm>
          <a:custGeom>
            <a:avLst/>
            <a:gdLst>
              <a:gd name="textAreaLeft" fmla="*/ 439920 w 2514600"/>
              <a:gd name="textAreaRight" fmla="*/ 182304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ff"/>
                </a:solidFill>
                <a:latin typeface="Arial"/>
              </a:rPr>
              <a:t>リクエ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2743200"/>
            <a:ext cx="5029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3733920"/>
            <a:ext cx="5029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71600" y="1752480"/>
            <a:ext cx="5029200" cy="838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ActionServl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5981400" y="2856960"/>
            <a:ext cx="838440" cy="2743200"/>
          </a:xfrm>
          <a:prstGeom prst="downArrow">
            <a:avLst>
              <a:gd name="adj1" fmla="val 50000"/>
              <a:gd name="adj2" fmla="val 817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1295280"/>
            <a:ext cx="1752480" cy="1371600"/>
          </a:xfrm>
          <a:prstGeom prst="wedgeRoundRectCallout">
            <a:avLst>
              <a:gd name="adj1" fmla="val -30708"/>
              <a:gd name="adj2" fmla="val 99074"/>
              <a:gd name="adj3" fmla="val 1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適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実装手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出来る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内部構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oxy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定義した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クラス名ではなく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特定し、処理を委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同じクラス名を定義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同期する必要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属性と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定義した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omponen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属性が一致している必要あ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oxyAction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の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914400"/>
            <a:ext cx="8305920" cy="405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truts-config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action-mapping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action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path="/subtract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type="org.seasar.struts.ProxyAction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/action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action-mapping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truts-confi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5051520"/>
            <a:ext cx="8305920" cy="1618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component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name="/subtract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class="org.seasar.struts.examples.SubtractAction"/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oxy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ソー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990720"/>
            <a:ext cx="7772400" cy="7716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ActionForward execute(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引数省略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 throws Exception {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Action delegateAction = createAction(mapping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return delegateAction.execute(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引数省略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Action createAction(ActionMapping mapping) {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ComponentNameCreator componentNameCreator =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(ComponentNameCreator) container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.getComponent(ComponentNameCreator.class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String componentName = 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componentNameCreator.createComponentName(container,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                                    mapping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Action action = ActionUtil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         createActionWithComponentName(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                  componentName, getServlet()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return action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内部構造につい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適用箇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1143000"/>
            <a:ext cx="5715000" cy="5105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tr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162920" y="1143000"/>
            <a:ext cx="1828800" cy="51055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5105520"/>
              <a:gd name="textAreaBottom" fmla="*/ 5016240 h 5105520"/>
            </a:gdLst>
            <a:ahLst/>
            <a:rect l="textAreaLeft" t="textAreaTop" r="textAreaRight" b="textAreaBottom"/>
            <a:pathLst>
              <a:path w="21600" h="60294">
                <a:moveTo>
                  <a:pt x="3600" y="0"/>
                </a:moveTo>
                <a:arcTo wR="3600" hR="3600" stAng="16200000" swAng="-5400000"/>
                <a:lnTo>
                  <a:pt x="0" y="56694"/>
                </a:lnTo>
                <a:arcTo wR="3600" hR="3600" stAng="10800000" swAng="-5400000"/>
                <a:lnTo>
                  <a:pt x="18000" y="602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ビ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ジ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ネ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ス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ロ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ジ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ッ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2133720"/>
            <a:ext cx="838440" cy="2743200"/>
          </a:xfrm>
          <a:prstGeom prst="downArrow">
            <a:avLst>
              <a:gd name="adj1" fmla="val 50000"/>
              <a:gd name="adj2" fmla="val 817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1295280"/>
            <a:ext cx="2514600" cy="762120"/>
          </a:xfrm>
          <a:custGeom>
            <a:avLst/>
            <a:gdLst>
              <a:gd name="textAreaLeft" fmla="*/ 439920 w 2514600"/>
              <a:gd name="textAreaRight" fmla="*/ 182304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ff"/>
                </a:solidFill>
                <a:latin typeface="Arial"/>
              </a:rPr>
              <a:t>リクエ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2743200"/>
            <a:ext cx="5029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3733920"/>
            <a:ext cx="5029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1752480"/>
            <a:ext cx="5029200" cy="838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ActionServl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981400" y="2856960"/>
            <a:ext cx="838440" cy="2743200"/>
          </a:xfrm>
          <a:prstGeom prst="downArrow">
            <a:avLst>
              <a:gd name="adj1" fmla="val 50000"/>
              <a:gd name="adj2" fmla="val 817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1295280"/>
            <a:ext cx="1752480" cy="1371600"/>
          </a:xfrm>
          <a:prstGeom prst="wedgeRoundRectCallout">
            <a:avLst>
              <a:gd name="adj1" fmla="val -30708"/>
              <a:gd name="adj2" fmla="val 99074"/>
              <a:gd name="adj3" fmla="val 1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適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し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roxy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同様に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属性と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定義した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omponen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属性が一致している必要あ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クラスを記述する必要は無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ただし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本来の使用方法には違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914400"/>
            <a:ext cx="8305920" cy="405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truts-config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action-mapping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action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path="/divide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808080"/>
                </a:solidFill>
                <a:latin typeface="ＭＳ ゴシック"/>
                <a:ea typeface="ＭＳ ゴシック"/>
              </a:rPr>
              <a:t>type="org.seasar.struts.ProxyAction"</a:t>
            </a:r>
            <a:r>
              <a:rPr b="1" lang="ja-JP" sz="2000" spc="-1" strike="noStrike">
                <a:solidFill>
                  <a:srgbClr val="80808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←不要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/action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action-mapping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truts-confi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5051520"/>
            <a:ext cx="8305920" cy="1618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component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name="/divide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class="org.seasar.struts.examples.DivideAction"/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マッピングについ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デフォルトは①モジュール名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パス名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r②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パス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、②の優先順位で、コンポーネントを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ttp://homepage3.nifty.com/seasar/s2struts.html#Mapping</a:t>
            </a:r>
            <a:br>
              <a:rPr sz="20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参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rg.seasar.struts.ComponentNameCreator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mp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したクラスを、コンテナに登録することで、マッピング方法を変更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コンテナに登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.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記述するサーブレット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rg.apache.struts.action.ActionServl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はなく、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rg.seasar.struts.S2ActionServ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917800"/>
            <a:ext cx="7772400" cy="344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web-app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servle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servlet-name&gt;action&lt;/servlet-name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servlet-clas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S2ActionServlet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ervlet-clas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/servle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web-ap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コンテナに登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対して、アスペクトなどを適用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2689200"/>
            <a:ext cx="7772400" cy="314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component class="org.seasar.struts.S2RequestProcessor"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aspect pointcut="process"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&lt;component class=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"org.seasar.struts.examples.MeasureTimeInterceptor"/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/aspec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/componen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適用へのヒ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記述し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記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roxy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使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記述し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"S2Struts"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ァミリー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レゼンテーション層の一つ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Tape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使うと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簡単に連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ラスにサービスコンポーネントが自動的に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ラスはコントローラに徹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ラス等に対してアスペクトを適用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pp.dic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変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pp.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名前、パスを変更したい場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1828800"/>
            <a:ext cx="8381880" cy="4534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web-app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ervlet-class&gt;org.seasar.struts.S2StrutsServlet&lt;/servlet-clas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it-param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 &lt;param-name&gt;configPath&lt;/param-name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&lt;param-value&gt;org/seasar/struts/config.dicon&lt;/param-value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/init-param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load-on-startup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ervle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web-ap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実装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サイトを参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ttp://homepage3.nifty.com/seasar/s2strut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ourceforg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あ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参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内部構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適用している箇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のように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利用している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インターフェースの作成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Service.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2460600"/>
            <a:ext cx="7772400" cy="3180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org.seasar.struts.exampl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* @author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きむき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erface AddServic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add(int arg1, int arg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インターフェースの実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ServiceImpl.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460600"/>
            <a:ext cx="7772400" cy="441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org.seasar.struts.exampl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* @author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きむき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ServiceImpl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implements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add(int arg1, int arg2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arg1 + arg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クラスの実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Action.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2460600"/>
            <a:ext cx="7772400" cy="441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AddActio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set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AddService  addService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addService = addService;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クラスの実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Action.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1981080"/>
            <a:ext cx="8153640" cy="5181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ActionForward execute(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引数省略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lculationForm calForm = (CalculationForm) for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nt result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add(calForm.getArg1(), calForm.getArg2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lForm.setResult(resul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(mapping.findForward("success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コンポーネントをコンポーネント定義ファイ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以後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登録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.dic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2841480"/>
            <a:ext cx="8305920" cy="2094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examples.AddServiceImpl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dd.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pp.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登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2536920"/>
            <a:ext cx="8305920" cy="1631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clude path=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/seasar/struts/examples/Add.dicon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Satoshi Kimura</dc:creator>
  <dc:description/>
  <dc:language>en-US</dc:language>
  <cp:lastModifiedBy>木村　聡</cp:lastModifiedBy>
  <dcterms:modified xsi:type="dcterms:W3CDTF">2004-11-16T01:50:57Z</dcterms:modified>
  <cp:revision>119</cp:revision>
  <dc:subject/>
  <dc:title>S2Struts超入門</dc:title>
</cp:coreProperties>
</file>