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1280" y="-1440"/>
            <a:ext cx="9072720" cy="6815160"/>
            <a:chOff x="71280" y="-1440"/>
            <a:chExt cx="9072720" cy="6815160"/>
          </a:xfrm>
        </p:grpSpPr>
        <p:sp>
          <p:nvSpPr>
            <p:cNvPr id="1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1280" y="-1440"/>
              <a:ext cx="2916360" cy="13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19280" y="836640"/>
              <a:ext cx="752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9F9ACA3-D196-4B38-B8B2-F1CF08F8F875}" type="slidenum"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95280" y="1268280"/>
            <a:ext cx="8748720" cy="5545440"/>
            <a:chOff x="395280" y="1268280"/>
            <a:chExt cx="8748720" cy="554544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395280" y="1268280"/>
              <a:ext cx="360036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340000" y="2349360"/>
              <a:ext cx="680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からさわぎ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Op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7.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hat Is “Seasar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ープンソース（ライセンス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SL1.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純国産（メイン開発者はひがやすおさん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レームワー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呼び方は「しーさー」で沖縄の狛犬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?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こと。ひがさんは沖縄出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目指すも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解体と再構築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美味しいところを手軽に利用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易しさ」 と「優しさ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’s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歴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前～ひがさんオリジナ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,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ネクションプーリングなどな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初期版～スターロジック用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mcat,iBAT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組み合わせて、外国為替オンライントレーディングシステムで使用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EB+DB PRESS Vol.15,1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参照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 V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オールインワン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lowlet,Rulet,Sqlet,Jetty,HSQLDB,GPSS,Eclips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などが整備され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4/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 V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として華麗に進化！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従来の機能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ベースで再構築し、よりしなやかに強靭になった</a:t>
            </a:r>
            <a:br>
              <a:rPr sz="2400"/>
            </a:b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新しい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開発スタイル「ダイコン時代」の幕開け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ジェクト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別名「ひがやすおと愉快な仲間たち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ミッ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盛り上げることを通じて、ソフトウェア開発の現場をより楽しく、より幸せにしていくこ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役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ひがさんのやる気を損ねない（笑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々周辺の雑務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SourceForg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メンテなど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まめな宴会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知ってもらうためのマーケティン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担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特に何も決めていませ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皆さん、どんどん「自由に」何でも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やっちゃって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現在のコミッ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ひがさ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高井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GroovyBuild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ほそかわ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あがたさん＆まさたか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Kijimun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きむら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るお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Tapestr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おかざき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ァミリ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コアプロダク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IContain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AOP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アライアンスに準拠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Tx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トランザクションの自動制御 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サーバ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コネクションプールを使うことも可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DBCP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コネクションプーリング 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JDBC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Jakarta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bUtil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みたいなもの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ORM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フレームワーク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Unit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テストファーストのためのツール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周辺プロダク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GroovyBuilde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設定ファイルを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で記述でき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Flash Remoting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Kijimuna(Seasar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プラグイン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Hibern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Stru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Tapest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今後の予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Remo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JS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We 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さぁ、からさわごう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合言葉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「もっと優しく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もっと易しく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03:49:45Z</dcterms:created>
  <dc:creator>Masataka Kurihara</dc:creator>
  <dc:description/>
  <dc:language>en-US</dc:language>
  <cp:lastModifiedBy>羽生　章洋</cp:lastModifiedBy>
  <dcterms:modified xsi:type="dcterms:W3CDTF">2004-07-15T15:02:57Z</dcterms:modified>
  <cp:revision>43</cp:revision>
  <dc:subject/>
  <dc:title>スライド 1</dc:title>
</cp:coreProperties>
</file>