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31E-D21B-429E-8114-CB615E154BC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1022-15B9-4AE3-A30E-226A16B4A1C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29Z</dcterms:modified>
  <cp:revision>117</cp:revision>
  <dc:subject/>
  <dc:title>スライド 1</dc:title>
</cp:coreProperties>
</file>