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BF8D-5DF4-4104-8820-A8819E431B3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221A7-97EE-4AB9-BC57-4771739D2D3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94E7-CB18-4C5F-B833-1829FC4EB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C89D-1A5C-4C85-BDC6-4CE0346B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7FAF-3169-460A-9ABA-C068F1C8E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9A60-A817-451F-93FC-96E2474A9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7732-3A72-4C5F-9314-50AD346AA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3934-1A52-4F43-AC5F-0DCF9AC8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6009-4394-4158-B180-F0D76762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02A5-AFFD-418B-95E5-94C6F68FC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7C8A-4966-4694-945A-11FB33F6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23BF-E9D4-4119-9A01-85E7CB55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215E-F6E0-489F-8124-BC5491B01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4347-6A6C-4020-A37F-38885F0D9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8825-A9AB-437D-B442-87E5DADB49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2-23T10:28:37Z</dcterms:modified>
  <cp:revision>49</cp:revision>
  <dc:subject/>
  <dc:title>スライド 1</dc:title>
</cp:coreProperties>
</file>