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DB2E6-F82D-4D87-A45C-CE749CBF100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9FCBE-780A-4F36-8497-3630670D37D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7F1F-8397-4DC0-A67F-D8AFECD5E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FE50-7476-449F-9432-EEF795667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AAD8-D10B-4054-9141-4E5AD752B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7428-5BC8-4041-A466-99648CCDE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B474-2356-467F-BBC9-690E32136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B4DA-47E5-4F5F-A663-19DD5B653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0549-9F60-4CAC-80F3-5F4AF71E0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C3F9-CE8D-4917-99EB-1A3EC701A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07E0-55EE-4DA9-8764-04F197277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13DB-0B9D-4735-8D6A-71F3ED0D7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454E-3B41-48D3-A446-71D384EC3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7650-110A-4611-8707-1CB68ACD1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AB0AD-9720-484A-81FB-9A6CF0A035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2-23T10:28:37Z</dcterms:modified>
  <cp:revision>49</cp:revision>
  <dc:subject/>
  <dc:title>スライド 1</dc:title>
</cp:coreProperties>
</file>