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BE0-6656-4702-B16B-D11E093E41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5D88-90BE-4B55-A663-5DCE531933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スライド番号プレースホル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2E00-596B-4627-9BA1-9818386781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8AE-1CCF-4017-8C3D-48B2C0E9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809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E47-4DC1-478E-B00B-1B94780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D37-43EF-4194-847C-E0BEFC5F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809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809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809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0A2-1D6A-4B43-AFD9-7E66726D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190-0FE0-499A-A871-E9E760D6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252-4F0E-4B4A-B5C8-7EA40174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AA0-F2CB-4212-BC61-002C9F91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051-AE05-4579-B5C3-07B5623B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B94-5878-4E34-8DBC-461A5B1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720-A995-4BA0-8927-B63BB212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09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F30-C1D1-4E18-B7F7-BB11D91B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809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EBB-EBA1-471A-AE23-70BD898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8001000" y="0"/>
            <a:ext cx="1066680" cy="40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2087-2570-48A7-AA61-ECD7337E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0" y="66438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oha Project, (C) 2008 Kimio Kuramitsu, Yokohama National University,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次世代ユビキタス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スクリプティング言語の開発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横浜国立大学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倉光君郎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TRONSHOW2009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@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東京ミッドタウン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六本木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東京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実世界の「意味」を目指して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1999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年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NASA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は火星観測衛星を失った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3"/>
              </a:rPr>
              <a:t>火星人の攻撃か？それとも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126" name="Picture 4" descr="MCj02833010000[1]"/>
          <p:cNvPicPr/>
          <p:nvPr/>
        </p:nvPicPr>
        <p:blipFill>
          <a:blip r:embed="rId1"/>
          <a:stretch/>
        </p:blipFill>
        <p:spPr>
          <a:xfrm>
            <a:off x="7162920" y="533520"/>
            <a:ext cx="1704960" cy="1312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Cj02403610000[1]"/>
          <p:cNvPicPr/>
          <p:nvPr/>
        </p:nvPicPr>
        <p:blipFill>
          <a:blip r:embed="rId2"/>
          <a:stretch/>
        </p:blipFill>
        <p:spPr>
          <a:xfrm>
            <a:off x="914400" y="3276720"/>
            <a:ext cx="2879640" cy="1473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2859540000[1]"/>
          <p:cNvPicPr/>
          <p:nvPr/>
        </p:nvPicPr>
        <p:blipFill>
          <a:blip r:embed="rId3"/>
          <a:stretch/>
        </p:blipFill>
        <p:spPr>
          <a:xfrm>
            <a:off x="5003640" y="3057480"/>
            <a:ext cx="2936880" cy="13082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7"/>
          <p:cNvSpPr/>
          <p:nvPr/>
        </p:nvSpPr>
        <p:spPr>
          <a:xfrm>
            <a:off x="5722920" y="2514600"/>
            <a:ext cx="2278080" cy="1201680"/>
          </a:xfrm>
          <a:prstGeom prst="wedgeEllipseCallout">
            <a:avLst>
              <a:gd name="adj1" fmla="val -41393"/>
              <a:gd name="adj2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長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メートル法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1066680" y="2743200"/>
            <a:ext cx="2438640" cy="996840"/>
          </a:xfrm>
          <a:prstGeom prst="wedgeEllipseCallout">
            <a:avLst>
              <a:gd name="adj1" fmla="val 25550"/>
              <a:gd name="adj2" fmla="val 10421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長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フィート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44520" y="5562720"/>
            <a:ext cx="5208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現在のプログラミング言語では、フィート法とメートル法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区別も扱うことができない。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Guy Steel Jr. OOPSLA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035440" y="4861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アメリカの開発チー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972400" y="450864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ヨーロッパ＆アジア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チー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セマンティックプログラミン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67984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95640" y="1484280"/>
            <a:ext cx="2592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摂氏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? </a:t>
            </a: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華氏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332000" y="5805360"/>
            <a:ext cx="532764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寒いって一体、何度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j02343120000[1]"/>
          <p:cNvPicPr/>
          <p:nvPr/>
        </p:nvPicPr>
        <p:blipFill>
          <a:blip r:embed="rId1"/>
          <a:stretch/>
        </p:blipFill>
        <p:spPr>
          <a:xfrm>
            <a:off x="7380360" y="4149720"/>
            <a:ext cx="1320840" cy="240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2"/>
          <a:stretch/>
        </p:blipFill>
        <p:spPr>
          <a:xfrm>
            <a:off x="1760400" y="1731960"/>
            <a:ext cx="714600" cy="590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2889000" y="190512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温度センサ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295280" y="2438280"/>
            <a:ext cx="7010640" cy="3080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//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温度が寒ければ、ストーブを付け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void check(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温度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c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f(c == "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寒い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"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activate("</a:t>
            </a:r>
            <a:r>
              <a:rPr b="1" lang="ja-JP" sz="2800" spc="-1" strike="noStrike">
                <a:solidFill>
                  <a:srgbClr val="000000"/>
                </a:solidFill>
                <a:latin typeface="Lucida Console"/>
              </a:rPr>
              <a:t>ストーブ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"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意味型による推論エンジ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Picture 38" descr="MCj02343120000[1]"/>
          <p:cNvPicPr/>
          <p:nvPr/>
        </p:nvPicPr>
        <p:blipFill>
          <a:blip r:embed="rId1"/>
          <a:stretch/>
        </p:blipFill>
        <p:spPr>
          <a:xfrm>
            <a:off x="8186760" y="3436920"/>
            <a:ext cx="957240" cy="166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5564160" y="4172040"/>
            <a:ext cx="14400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体感温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179800" y="4172040"/>
            <a:ext cx="12967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rebuchet MS"/>
              </a:rPr>
              <a:t>温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1"/>
          <p:cNvSpPr/>
          <p:nvPr/>
        </p:nvSpPr>
        <p:spPr>
          <a:xfrm>
            <a:off x="3348000" y="3276720"/>
            <a:ext cx="2009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セマンティックマッピン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1066680" y="1752480"/>
            <a:ext cx="1081080" cy="720720"/>
            <a:chOff x="1066680" y="1752480"/>
            <a:chExt cx="1081080" cy="720720"/>
          </a:xfrm>
        </p:grpSpPr>
        <p:sp>
          <p:nvSpPr>
            <p:cNvPr id="148" name="Rectangle 4"/>
            <p:cNvSpPr/>
            <p:nvPr/>
          </p:nvSpPr>
          <p:spPr>
            <a:xfrm>
              <a:off x="1066680" y="1752480"/>
              <a:ext cx="1081080" cy="72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1066680" y="184248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66680" y="202248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66680" y="220320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1066680" y="2383200"/>
              <a:ext cx="1081080" cy="8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1349640" y="17524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555920" y="17524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90720" y="17524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2"/>
          <p:cNvSpPr/>
          <p:nvPr/>
        </p:nvSpPr>
        <p:spPr>
          <a:xfrm>
            <a:off x="1167840" y="2590920"/>
            <a:ext cx="16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リレーショナ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310720" y="2514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4"/>
          <p:cNvGrpSpPr/>
          <p:nvPr/>
        </p:nvGrpSpPr>
        <p:grpSpPr>
          <a:xfrm>
            <a:off x="5074200" y="1797120"/>
            <a:ext cx="1258920" cy="743400"/>
            <a:chOff x="5074200" y="1797120"/>
            <a:chExt cx="1258920" cy="743400"/>
          </a:xfrm>
        </p:grpSpPr>
        <p:sp>
          <p:nvSpPr>
            <p:cNvPr id="159" name="Oval 15"/>
            <p:cNvSpPr/>
            <p:nvPr/>
          </p:nvSpPr>
          <p:spPr>
            <a:xfrm rot="931200">
              <a:off x="5099760" y="1958040"/>
              <a:ext cx="219600" cy="221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 flipV="1">
              <a:off x="5330880" y="1956960"/>
              <a:ext cx="307440" cy="8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 rot="931200">
              <a:off x="5649480" y="1822320"/>
              <a:ext cx="219600" cy="22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 rot="931200">
              <a:off x="5689080" y="2293920"/>
              <a:ext cx="219600" cy="22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5301000" y="2151360"/>
              <a:ext cx="392400" cy="2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 flipV="1">
              <a:off x="5882760" y="2089800"/>
              <a:ext cx="232200" cy="22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1"/>
            <p:cNvSpPr/>
            <p:nvPr/>
          </p:nvSpPr>
          <p:spPr>
            <a:xfrm rot="931200">
              <a:off x="6087600" y="1886040"/>
              <a:ext cx="219600" cy="221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2826000" y="1523880"/>
            <a:ext cx="2584080" cy="1371240"/>
            <a:chOff x="2826000" y="1523880"/>
            <a:chExt cx="2584080" cy="1371240"/>
          </a:xfrm>
        </p:grpSpPr>
        <p:pic>
          <p:nvPicPr>
            <p:cNvPr id="167" name="Picture 23" descr=""/>
            <p:cNvPicPr/>
            <p:nvPr/>
          </p:nvPicPr>
          <p:blipFill>
            <a:blip r:embed="rId2"/>
            <a:stretch/>
          </p:blipFill>
          <p:spPr>
            <a:xfrm>
              <a:off x="3351960" y="1647360"/>
              <a:ext cx="12765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4"/>
            <p:cNvSpPr/>
            <p:nvPr/>
          </p:nvSpPr>
          <p:spPr>
            <a:xfrm>
              <a:off x="2826000" y="152388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 / WebServices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5"/>
          <p:cNvGrpSpPr/>
          <p:nvPr/>
        </p:nvGrpSpPr>
        <p:grpSpPr>
          <a:xfrm>
            <a:off x="1371600" y="1905120"/>
            <a:ext cx="1081080" cy="720720"/>
            <a:chOff x="1371600" y="1905120"/>
            <a:chExt cx="1081080" cy="720720"/>
          </a:xfrm>
        </p:grpSpPr>
        <p:sp>
          <p:nvSpPr>
            <p:cNvPr id="170" name="Rectangle 26"/>
            <p:cNvSpPr/>
            <p:nvPr/>
          </p:nvSpPr>
          <p:spPr>
            <a:xfrm>
              <a:off x="1371600" y="1905120"/>
              <a:ext cx="1081080" cy="72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7"/>
            <p:cNvSpPr/>
            <p:nvPr/>
          </p:nvSpPr>
          <p:spPr>
            <a:xfrm>
              <a:off x="1371600" y="199512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8"/>
            <p:cNvSpPr/>
            <p:nvPr/>
          </p:nvSpPr>
          <p:spPr>
            <a:xfrm>
              <a:off x="1371600" y="217512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9"/>
            <p:cNvSpPr/>
            <p:nvPr/>
          </p:nvSpPr>
          <p:spPr>
            <a:xfrm>
              <a:off x="1371600" y="2355840"/>
              <a:ext cx="1081080" cy="90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0"/>
            <p:cNvSpPr/>
            <p:nvPr/>
          </p:nvSpPr>
          <p:spPr>
            <a:xfrm>
              <a:off x="1371600" y="2535840"/>
              <a:ext cx="1081080" cy="8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1654560" y="1905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1860840" y="1905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3"/>
            <p:cNvSpPr/>
            <p:nvPr/>
          </p:nvSpPr>
          <p:spPr>
            <a:xfrm>
              <a:off x="2195640" y="1905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15" descr="C:\Users\mick\AppData\Local\Microsoft\Windows\Temporary Internet Files\Content.IE5\1UGY1X2X\MCj03035690000[1].wmf"/>
          <p:cNvPicPr/>
          <p:nvPr/>
        </p:nvPicPr>
        <p:blipFill>
          <a:blip r:embed="rId3"/>
          <a:stretch/>
        </p:blipFill>
        <p:spPr>
          <a:xfrm>
            <a:off x="7162920" y="1676520"/>
            <a:ext cx="900000" cy="1022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8"/>
          <p:cNvSpPr/>
          <p:nvPr/>
        </p:nvSpPr>
        <p:spPr>
          <a:xfrm>
            <a:off x="7032960" y="251460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4"/>
          <p:cNvSpPr/>
          <p:nvPr/>
        </p:nvSpPr>
        <p:spPr>
          <a:xfrm rot="19483800">
            <a:off x="2590920" y="2971440"/>
            <a:ext cx="1081080" cy="12240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6"/>
          <p:cNvSpPr/>
          <p:nvPr/>
        </p:nvSpPr>
        <p:spPr>
          <a:xfrm rot="8317200">
            <a:off x="5070240" y="2947680"/>
            <a:ext cx="1081080" cy="122400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4"/>
          <a:stretch/>
        </p:blipFill>
        <p:spPr>
          <a:xfrm>
            <a:off x="3657600" y="3886200"/>
            <a:ext cx="1695600" cy="1695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5791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意味の違いを型として解決し、自動的に変換してくれ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ecurityWeaver </a:t>
            </a: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テクノロ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実行環境にあわせて、アスペクトとして、セキュリティ機能を安全に変更することができ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495080" y="580248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Kon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スクリプ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838080" y="5421240"/>
            <a:ext cx="3672000" cy="3373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id Amazon.placeOrder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349320" y="374508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BA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ポリシー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4"/>
          <p:cNvGrpSpPr/>
          <p:nvPr/>
        </p:nvGrpSpPr>
        <p:grpSpPr>
          <a:xfrm>
            <a:off x="6369480" y="2864160"/>
            <a:ext cx="1258920" cy="743400"/>
            <a:chOff x="6369480" y="2864160"/>
            <a:chExt cx="1258920" cy="743400"/>
          </a:xfrm>
        </p:grpSpPr>
        <p:sp>
          <p:nvSpPr>
            <p:cNvPr id="190" name="Oval 15"/>
            <p:cNvSpPr/>
            <p:nvPr/>
          </p:nvSpPr>
          <p:spPr>
            <a:xfrm rot="931200">
              <a:off x="6395040" y="3025080"/>
              <a:ext cx="219600" cy="221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 flipV="1">
              <a:off x="6626160" y="3024000"/>
              <a:ext cx="307440" cy="8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 rot="931200">
              <a:off x="6944760" y="2889360"/>
              <a:ext cx="219600" cy="22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 rot="931200">
              <a:off x="6984360" y="3360960"/>
              <a:ext cx="219600" cy="22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6596280" y="3218400"/>
              <a:ext cx="392400" cy="2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 flipV="1">
              <a:off x="7178040" y="3156840"/>
              <a:ext cx="232200" cy="22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1"/>
            <p:cNvSpPr/>
            <p:nvPr/>
          </p:nvSpPr>
          <p:spPr>
            <a:xfrm rot="931200">
              <a:off x="7382880" y="2953080"/>
              <a:ext cx="219600" cy="221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2"/>
          <p:cNvGrpSpPr/>
          <p:nvPr/>
        </p:nvGrpSpPr>
        <p:grpSpPr>
          <a:xfrm>
            <a:off x="6172200" y="4811760"/>
            <a:ext cx="1996200" cy="1247760"/>
            <a:chOff x="6172200" y="4811760"/>
            <a:chExt cx="1996200" cy="1247760"/>
          </a:xfrm>
        </p:grpSpPr>
        <p:pic>
          <p:nvPicPr>
            <p:cNvPr id="198" name="Picture 23" descr=""/>
            <p:cNvPicPr/>
            <p:nvPr/>
          </p:nvPicPr>
          <p:blipFill>
            <a:blip r:embed="rId1"/>
            <a:stretch/>
          </p:blipFill>
          <p:spPr>
            <a:xfrm>
              <a:off x="6172200" y="4811760"/>
              <a:ext cx="127692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24"/>
            <p:cNvSpPr/>
            <p:nvPr/>
          </p:nvSpPr>
          <p:spPr>
            <a:xfrm>
              <a:off x="7617240" y="56498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監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Freeform 44"/>
          <p:cNvSpPr/>
          <p:nvPr/>
        </p:nvSpPr>
        <p:spPr>
          <a:xfrm rot="19483800">
            <a:off x="1625760" y="3563640"/>
            <a:ext cx="1081080" cy="122400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6"/>
          <p:cNvSpPr/>
          <p:nvPr/>
        </p:nvSpPr>
        <p:spPr>
          <a:xfrm rot="8317200">
            <a:off x="2555640" y="3644640"/>
            <a:ext cx="1081080" cy="122400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1571040" y="3897360"/>
            <a:ext cx="20919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Wea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2057400" y="4430880"/>
            <a:ext cx="990720" cy="990360"/>
          </a:xfrm>
          <a:prstGeom prst="rect">
            <a:avLst/>
          </a:prstGeom>
          <a:ln w="0">
            <a:noFill/>
          </a:ln>
        </p:spPr>
      </p:pic>
      <p:cxnSp>
        <p:nvCxnSpPr>
          <p:cNvPr id="204" name="直線矢印コネクタ 23"/>
          <p:cNvCxnSpPr/>
          <p:nvPr/>
        </p:nvCxnSpPr>
        <p:spPr>
          <a:xfrm flipH="1" flipV="1">
            <a:off x="3656880" y="4419360"/>
            <a:ext cx="342972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05" name="図 26" descr=""/>
          <p:cNvPicPr/>
          <p:nvPr/>
        </p:nvPicPr>
        <p:blipFill>
          <a:blip r:embed="rId3"/>
          <a:stretch/>
        </p:blipFill>
        <p:spPr>
          <a:xfrm>
            <a:off x="4648320" y="3657600"/>
            <a:ext cx="1087200" cy="1523880"/>
          </a:xfrm>
          <a:prstGeom prst="rect">
            <a:avLst/>
          </a:prstGeom>
          <a:ln w="0">
            <a:noFill/>
          </a:ln>
        </p:spPr>
      </p:pic>
      <p:pic>
        <p:nvPicPr>
          <p:cNvPr id="206" name="図 28" descr=""/>
          <p:cNvPicPr/>
          <p:nvPr/>
        </p:nvPicPr>
        <p:blipFill>
          <a:blip r:embed="rId4"/>
          <a:stretch/>
        </p:blipFill>
        <p:spPr>
          <a:xfrm>
            <a:off x="1828800" y="2133720"/>
            <a:ext cx="1484280" cy="1484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3"/>
          <p:cNvSpPr/>
          <p:nvPr/>
        </p:nvSpPr>
        <p:spPr>
          <a:xfrm>
            <a:off x="3558240" y="2362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インターネッ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4161760"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ernel Scripting </a:t>
            </a:r>
            <a:r>
              <a:rPr b="0" lang="ja-JP" sz="3200" spc="-1" strike="noStrike">
                <a:solidFill>
                  <a:srgbClr val="000000"/>
                </a:solidFill>
                <a:latin typeface="Trebuchet MS"/>
              </a:rPr>
              <a:t>による安全なカーネル拡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スクリプティング言語テクノロジを組み合わせ、次世代のディペンダブル・オペレーティングシステムの先進的な研究取り組んでいます。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210" name="直線コネクタ 4"/>
          <p:cNvSpPr/>
          <p:nvPr/>
        </p:nvSpPr>
        <p:spPr>
          <a:xfrm>
            <a:off x="685800" y="4572000"/>
            <a:ext cx="815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212" name="テキスト ボックス 7"/>
          <p:cNvSpPr/>
          <p:nvPr/>
        </p:nvSpPr>
        <p:spPr>
          <a:xfrm>
            <a:off x="6636960" y="480060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l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図 8" descr=""/>
          <p:cNvPicPr/>
          <p:nvPr/>
        </p:nvPicPr>
        <p:blipFill>
          <a:blip r:embed="rId2"/>
          <a:stretch/>
        </p:blipFill>
        <p:spPr>
          <a:xfrm>
            <a:off x="2286000" y="4800600"/>
            <a:ext cx="923760" cy="1295280"/>
          </a:xfrm>
          <a:prstGeom prst="rect">
            <a:avLst/>
          </a:prstGeom>
          <a:ln w="0">
            <a:noFill/>
          </a:ln>
        </p:spPr>
      </p:pic>
      <p:sp>
        <p:nvSpPr>
          <p:cNvPr id="214" name="テキスト ボックス 9"/>
          <p:cNvSpPr/>
          <p:nvPr/>
        </p:nvSpPr>
        <p:spPr>
          <a:xfrm>
            <a:off x="3792960" y="55627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小型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oh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バーチャルマシ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10"/>
          <p:cNvSpPr/>
          <p:nvPr/>
        </p:nvSpPr>
        <p:spPr>
          <a:xfrm>
            <a:off x="3826440" y="327672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スクリプトによ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機能拡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下矢印 11"/>
          <p:cNvSpPr/>
          <p:nvPr/>
        </p:nvSpPr>
        <p:spPr>
          <a:xfrm>
            <a:off x="2514600" y="4038480"/>
            <a:ext cx="457200" cy="1295640"/>
          </a:xfrm>
          <a:prstGeom prst="down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Get Konoha Today!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Konoh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をダウンロードしてみましょう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219" name="図 3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13480" cy="4209840"/>
          </a:xfrm>
          <a:prstGeom prst="rect">
            <a:avLst/>
          </a:prstGeom>
          <a:ln w="0">
            <a:noFill/>
          </a:ln>
        </p:spPr>
      </p:pic>
      <p:sp>
        <p:nvSpPr>
          <p:cNvPr id="220" name="テキスト ボックス 4"/>
          <p:cNvSpPr/>
          <p:nvPr/>
        </p:nvSpPr>
        <p:spPr>
          <a:xfrm>
            <a:off x="1330200" y="57913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konoha.sourceforge.jp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謝辞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Konoh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は、下記の研究ファンドからの支援を受けて、開発されてきました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経済産業省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IP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未踏ソフトウェア創造事業「軽量オントロジレポジトリの開発」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総務省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SCOPE-R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「意味型を備えたユビキタスバーチャルマシンの開発」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文部科学省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JST/CREST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SecurityWeaver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と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P-Script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による実行時セキュリティの研究」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Konoha Projec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高度ユビキタスアプリケーション開発のため、次世代のスクリプティング言語を開発し、オープンソースによる提供をめざす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2514600" cy="138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2"/>
          <a:stretch/>
        </p:blipFill>
        <p:spPr>
          <a:xfrm>
            <a:off x="5562720" y="5562720"/>
            <a:ext cx="974520" cy="8110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33"/>
          <p:cNvGrpSpPr/>
          <p:nvPr/>
        </p:nvGrpSpPr>
        <p:grpSpPr>
          <a:xfrm>
            <a:off x="6705720" y="3962520"/>
            <a:ext cx="1231920" cy="1589040"/>
            <a:chOff x="6705720" y="3962520"/>
            <a:chExt cx="1231920" cy="1589040"/>
          </a:xfrm>
        </p:grpSpPr>
        <p:pic>
          <p:nvPicPr>
            <p:cNvPr id="57" name="Picture 34" descr=""/>
            <p:cNvPicPr/>
            <p:nvPr/>
          </p:nvPicPr>
          <p:blipFill>
            <a:blip r:embed="rId3"/>
            <a:stretch/>
          </p:blipFill>
          <p:spPr>
            <a:xfrm>
              <a:off x="6737400" y="4095360"/>
              <a:ext cx="1200240" cy="14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35"/>
            <p:cNvSpPr/>
            <p:nvPr/>
          </p:nvSpPr>
          <p:spPr>
            <a:xfrm>
              <a:off x="6705720" y="396252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36" descr=""/>
          <p:cNvPicPr/>
          <p:nvPr/>
        </p:nvPicPr>
        <p:blipFill>
          <a:blip r:embed="rId4"/>
          <a:stretch/>
        </p:blipFill>
        <p:spPr>
          <a:xfrm>
            <a:off x="1066680" y="3886200"/>
            <a:ext cx="12146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zaurus"/>
          <p:cNvPicPr/>
          <p:nvPr/>
        </p:nvPicPr>
        <p:blipFill>
          <a:blip r:embed="rId5"/>
          <a:stretch/>
        </p:blipFill>
        <p:spPr>
          <a:xfrm>
            <a:off x="1828800" y="5105520"/>
            <a:ext cx="2209680" cy="145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2" descr="RFID"/>
          <p:cNvPicPr/>
          <p:nvPr/>
        </p:nvPicPr>
        <p:blipFill>
          <a:blip r:embed="rId6"/>
          <a:stretch/>
        </p:blipFill>
        <p:spPr>
          <a:xfrm>
            <a:off x="5791320" y="2895480"/>
            <a:ext cx="752400" cy="952560"/>
          </a:xfrm>
          <a:prstGeom prst="rect">
            <a:avLst/>
          </a:prstGeom>
          <a:ln w="0">
            <a:noFill/>
          </a:ln>
        </p:spPr>
      </p:pic>
      <p:sp>
        <p:nvSpPr>
          <p:cNvPr id="62" name="円/楕円 36"/>
          <p:cNvSpPr/>
          <p:nvPr/>
        </p:nvSpPr>
        <p:spPr>
          <a:xfrm>
            <a:off x="3048120" y="3733920"/>
            <a:ext cx="3124080" cy="18288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多様なデバイ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多様な情報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なぜ？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現在のアプリケーション開発は、スクリプティング言語が中心となっている。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00"/>
                </a:solidFill>
                <a:uFillTx/>
                <a:latin typeface="ヒラギノ角ゴ Pro W3"/>
              </a:rPr>
              <a:t>組み込み＆ユビキタス分野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でも適用できる、高性能＆セキュアな言語エンジンの需要は大きい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65" name="図 5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172728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図 6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1815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Konoha </a:t>
            </a: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言語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新設計のスクリプティング言語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Java 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ベースのオブジェクト指向技術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ハイブリッドの型システム（静的／動的）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バーチャルマシン（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KLR</a:t>
            </a: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）ベースの実行環境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クロスプラットホーム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Linux, MacOS X, 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Win32, 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TRON(T-Kernel)</a:t>
            </a:r>
            <a:endParaRPr b="0" lang="en-US" sz="24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2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7339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Konoha </a:t>
            </a: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言語の基本設計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誰でもどこでもすぐに使える言語を目指して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73" name="テキスト ボックス 15"/>
          <p:cNvSpPr/>
          <p:nvPr/>
        </p:nvSpPr>
        <p:spPr>
          <a:xfrm>
            <a:off x="1170360" y="1905120"/>
            <a:ext cx="19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ように書け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16"/>
          <p:cNvSpPr/>
          <p:nvPr/>
        </p:nvSpPr>
        <p:spPr>
          <a:xfrm>
            <a:off x="5029200" y="60199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対話的にも動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5"/>
          <p:cNvSpPr/>
          <p:nvPr/>
        </p:nvSpPr>
        <p:spPr>
          <a:xfrm>
            <a:off x="533520" y="2438280"/>
            <a:ext cx="4572000" cy="314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Person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ag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 (String name, int ag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name = name; _age = ag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 p =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erson("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る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, 17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図 6" descr=""/>
          <p:cNvPicPr/>
          <p:nvPr/>
        </p:nvPicPr>
        <p:blipFill>
          <a:blip r:embed="rId1"/>
          <a:stretch/>
        </p:blipFill>
        <p:spPr>
          <a:xfrm>
            <a:off x="4648320" y="2629080"/>
            <a:ext cx="43862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2"/>
          <p:cNvSpPr/>
          <p:nvPr/>
        </p:nvSpPr>
        <p:spPr>
          <a:xfrm rot="20921400">
            <a:off x="3348000" y="4292640"/>
            <a:ext cx="482436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"/>
          <p:cNvSpPr/>
          <p:nvPr/>
        </p:nvSpPr>
        <p:spPr>
          <a:xfrm rot="431400">
            <a:off x="2987640" y="1773360"/>
            <a:ext cx="6156360" cy="23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静的な型付けスクリプティング言語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26920" y="148428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276720" y="234792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24360" y="277956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804000" y="278136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#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708360" y="2781360"/>
            <a:ext cx="1511280" cy="703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-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187280" y="2565360"/>
            <a:ext cx="13687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tal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122120" y="1989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オブジェクト指向の登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708360" y="443700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876920" y="4653000"/>
            <a:ext cx="137304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029200" y="5086440"/>
            <a:ext cx="122076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390040" y="4005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スクリプト言語の登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195640" y="444960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6300720" y="486900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50920" y="386064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684360" y="645336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07400" y="6113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2743920" y="6093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688640" y="6093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6631920" y="6093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4791240" y="32130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抽象クラ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デザインパター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7156800" y="1773360"/>
            <a:ext cx="109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パラメタ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4067280" y="1125360"/>
            <a:ext cx="102852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6443640" y="1125360"/>
            <a:ext cx="10288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6084000" y="551664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ck ty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1813320" y="2997360"/>
            <a:ext cx="103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クラス継承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カプセル化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ポリモーフィズ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4038480" y="1916280"/>
            <a:ext cx="25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メインストリーム言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3276720" y="55022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ダイナミック言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7236000" y="3933720"/>
            <a:ext cx="1603080" cy="398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oh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6477120" y="358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ハイブリッド言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5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522960" cy="2519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onoha "Runanytime" 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コンパイラ・テクノロ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スクリプトは、レジスタ型バーチャルマシンのバイトコードへコンパイル後、実行され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型検査が行われる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エラー箇所は安全に動作可能なコードへ変更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9480" y="4419720"/>
            <a:ext cx="3672000" cy="1219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t f(int n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(n==1)return 1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 n * f(n-1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65760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05000" y="609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コンパイ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150640" y="3886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Kon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ソースコー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399000" y="5562720"/>
            <a:ext cx="20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Kon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M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</a:rPr>
              <a:t>世界最高水準の実行性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05120"/>
          <a:ext cx="4038480" cy="3047760"/>
        </p:xfrm>
        <a:graphic>
          <a:graphicData uri="http://schemas.openxmlformats.org/drawingml/2006/table">
            <a:tbl>
              <a:tblPr/>
              <a:tblGrid>
                <a:gridCol w="1984320"/>
                <a:gridCol w="2054160"/>
              </a:tblGrid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(36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y 1.8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l 5.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Scrip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oha 0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/19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351720"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a 5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960" rIns="8496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下矢印 5"/>
          <p:cNvSpPr/>
          <p:nvPr/>
        </p:nvSpPr>
        <p:spPr>
          <a:xfrm>
            <a:off x="4952880" y="4343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6"/>
          <p:cNvSpPr/>
          <p:nvPr/>
        </p:nvSpPr>
        <p:spPr>
          <a:xfrm>
            <a:off x="5887440" y="458316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oha 0.3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は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より高速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7"/>
          <p:cNvSpPr/>
          <p:nvPr/>
        </p:nvSpPr>
        <p:spPr>
          <a:xfrm>
            <a:off x="3583080" y="57862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オブジェクト指向スクリプティング言語では、世界最高水準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性能を実現してい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現在の研究課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スクリプティング言語の高速化、組込み化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ハイブリッドな型システム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「意味のわかる」プログラミング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相互運用性とセマンティック処理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高信頼性ソフトウェア技術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SecurityWeaver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ヒラギノ角ゴ Pro W3"/>
              </a:rPr>
              <a:t>ディペンダビリティ記述</a:t>
            </a:r>
            <a:endParaRPr b="0" lang="en-US" sz="2800" spc="-1" strike="noStrike">
              <a:solidFill>
                <a:srgbClr val="000000"/>
              </a:solidFill>
              <a:latin typeface="ヒラギノ角ゴ Pro W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2:37:04Z</dcterms:created>
  <dc:creator/>
  <dc:description/>
  <dc:language>en-US</dc:language>
  <cp:lastModifiedBy>君郎 倉光</cp:lastModifiedBy>
  <cp:lastPrinted>2009-04-22T19:24:48Z</cp:lastPrinted>
  <dcterms:modified xsi:type="dcterms:W3CDTF">2008-12-08T15:51:16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